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AC7D-9F0B-4825-A121-0DE3833BD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F6FD-C3DF-4ACE-8117-5572B2DD8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4710-E6C3-493C-814D-0E3B199FA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8A41-4721-406B-9BF7-E502B9B337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2900-24C2-4AB3-8313-C3B3C2F5F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D047-C5F6-4618-B54A-1A7373C82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B514-CC47-48ED-A8A7-342921F8C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A19A-FA05-4A4E-9BBC-C467DFB60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9912-059D-4011-B605-DB2FA85DC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534D-6EF7-42A6-B3EF-8CE65BE38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B0FF-67AF-4226-A00A-61F81AAD8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C911-E8D4-4455-8C3D-4E9C24D10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E608A3-8176-4A28-B869-987D16AE704B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8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78160" y="301968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ВАЛИДНОСТ ЕКОНОМСКИХ СТУДИЈ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економск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алидно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рађен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тудија има добро дефинисани економски ци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упоређује добро дефинисане алтернативне поступке (дијагностичке или терапијске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дефинише гледиште са кога се спроводи анализ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тудија цитира добре доказе о ефикасности алтернатив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у студији идентификовани сви релевантни трошкови и ефекти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економске студије значајни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рсте економских студиј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cost minim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Анализа трошкови/ефикасност (cost/effective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фекат два или више поступака се изрази у истим јединицама (нпр. трајање хоспитализације, смртност после месец дана и сл.), а затим се упоређују трошкови по јединици мере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Анализа трошкови/добробит (cost/benef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фекти два или више поступака су изражени у различитим јединицама, али се затим конвертују у заједничку јединицу (нпр. новац); на крају се трошкови упоређују по заједничкој једини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Анализа трошкови/употребљивост (cost/ut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Quality Adjusted Life Years (QА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економс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резултујући трошкови или трошкови по јединици мерења импресив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закључци студије мењају ако се у реалним границама мењају цене лечења или ефек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(sensitivity analysis – анализа осетљивост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Да ли се резултати могу применити на нашег пацијент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требно је прилагодити економске студије рађене у другим земљама, пре свега за цене здравствених усл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ене здравствених услуга су у Србији од 10 до 100 пута ниже од цене у развијеним земљ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вор података за цене у Србији: тарифна књига РФЗО-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3-01-27T14:17:19Z</dcterms:modified>
  <cp:revision>55</cp:revision>
  <dc:subject/>
  <dc:title>Slide 1</dc:title>
</cp:coreProperties>
</file>